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F36-330E-4C8A-814B-440E1FF1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4AC3-CC8C-4D0D-AFBD-4C5F19557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DB4A-4552-4FF2-BADB-668A89652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D97B-AD43-4517-A629-D1A8F5C9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72B06-0BE7-4F80-B22A-89B22918B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5A48-2C8D-4527-A8DE-518408F7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3E60-2EFB-4A67-9D51-22D57E58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284A-EC13-4483-A05D-632AB03E3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08007-D9A8-47DD-ABDD-99C9D0BC3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30D04-0737-4167-AFB2-BEF5004B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A6AE8-D131-4463-8A23-E2826775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A91-39D8-4FB7-B802-D668FA61E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A39CF-F123-4896-A61F-764659F3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511E-9495-4627-A648-F331D880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5AD9-D41F-452C-8EA7-4459D8D36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1C433-F0CB-4B1D-9FDA-D14FC5468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1F21-09B0-43E1-803E-3749B897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40ACAB-226D-4AD6-8EB1-1F7669563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8D9D42-A75E-40E7-B37B-2A067C7F9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8ACCB4-5CC4-43EB-9B7E-9733C2A26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C6CB52-6218-4434-A618-BDB77465E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CF26050-3218-43FA-8232-25284266A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51DA-DC6C-4E73-A91E-21F6CE57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15055F-54FE-49D0-A40D-191BBAD0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2B90E8-751A-4612-B46B-AD7619B2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58F3A5-4D94-454A-BA2F-A45695AB3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F4098-523E-4376-B41D-B836BD64A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DDFEF3-AE66-4981-85F0-0D144CE7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293B6F-6EB4-4BF5-981C-8EFB217CD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F7F127-912E-42FB-899F-5D52734CC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24B7FF2-5E43-4CA1-8B66-A94678CC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F2EA4-A5E2-4578-82F0-748B28092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E15F9-DEE9-4876-9C65-3B34499D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5140-951C-4AC2-AD06-D04B6905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0438B6-6B25-484B-8829-EE67EEBF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66F001-E71A-4A66-B620-019832854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FD0F1AF-D754-4387-A959-2E42C8E2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CF69F56-D596-4C18-9C05-B057163E7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EF0DBB9-DB49-4815-A557-569C29845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5D41D3-B34A-4673-B0F7-122179A2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DA506E-7A15-444C-ABB2-4F6912CC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860C0-9565-4568-972C-DCFB876A9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FA0E6C-D6D5-4CC5-8173-F3A9B8939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99CB547-ED10-4D9D-B7B8-B3345D36E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FDBF-B03A-4A4B-A7C6-46769561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A28E9B-8798-4681-81D0-94116E0D8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D6CDE9A-1B30-4DFA-AFD7-9B3E0F85C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8909E00-5FF7-42B1-A3EA-0013FE62C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4FA24D-E09A-4F45-8840-BD026250B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49A8E4-79D5-4D74-8BF6-AC9E8677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EAD72-721E-46F7-A038-D8E9AF32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FBDE2B-4071-45D5-B0A6-84344F173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166B27-08AF-490E-8997-F77634A8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86BA72E-2508-4FE4-AED4-C5E6A1D7D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B6579E-22A9-4B6E-8EDD-41063437A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C0F-47F5-429D-9F70-BB6699A41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201F8C9-B138-4279-9C93-47081737A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12D9E-3F2F-4086-BDFA-1E07ADBC3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517CA5-E53F-414B-BC5D-68A4AD85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490C2-1E43-4FA4-8A97-36A4F8CF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75ABC-4F48-4D00-A0E6-01413837C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4AAA2D-048C-4C64-9E09-D978BB602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8B138B-FB34-4847-A316-C0D5F154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14FCA-724D-42E0-A103-45929F8BB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60ED05-7AB8-41F3-AE4F-41A3B305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A24045-79DD-4F90-83AF-49F9CCC4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2B14-2D1B-4AAC-ACE5-5AF05A82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D4A78-6578-4EF9-907F-87A60AB9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C800A-A114-4708-A646-4A7682722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3BB10-D214-466D-A884-F36F771EC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C2AEB-45A2-4DDD-8351-7FF56FA6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A7924E4-D984-405D-A83C-7D74CCC21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36B95D-6778-4883-9972-6B602C19F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2F2CF5-8373-48E8-8257-90F8AEA9E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A74A749-7146-4C2B-9BAA-0B74688DC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7DCA2D-245F-47A3-A88E-B3886999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D4A442E-2869-4D0E-B43F-306E0CFF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E803-6B0C-4E4B-97F2-D1B98A6C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99CE8A-C763-4EDD-839D-C4261E06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60B749-A0FB-4BD4-A45D-7085EBD8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F7E54EE-C8F6-491B-9956-188D8F35E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A1246-5A48-4CD4-98F6-8FDDD8A5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DC8DBD-72A1-40DD-9262-A2E5D05E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3C862-6753-4C62-AD39-741B79D03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661DB7-A187-4DB2-BAC0-A1C7D3C7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6F98C8-713C-4A32-9649-59846FB7F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8FC45-8ABC-4C7F-A5E1-5CB9F5732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76203B-4DFE-43F3-AA5C-D2A7C0E2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82C9-3BC8-44BA-BBB6-636445C7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61873C-B17D-4E19-90AC-376D1151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615D0B-2038-4BC1-948A-CC278AD9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5D3996-96AD-4DBD-9384-FF764870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6A9891-5F02-4B4A-AE1E-62A2AF01D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5F9567-62F4-4371-8EEC-FC82DB00B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5C5EE-E84B-43F1-82E3-C68DA8B8D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774839-8796-4CF1-81AA-2D98069D3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B9479-DB62-4204-A5CB-8B07F0EB2E5F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6e3d6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w Cen MT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6e3d6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C02F-379F-452C-B827-B96B8924F746}" type="slidenum">
              <a:rPr b="1" lang="en-US" sz="1400" spc="-1" strike="noStrike">
                <a:solidFill>
                  <a:srgbClr val="e6e3d6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0F68-3073-4D97-B1DD-BFD94D39ECDC}" type="slidenum">
              <a:rPr b="1" lang="en-US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29166-C74A-43D0-8B78-0040CBF2A0B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6386-B94C-4F6D-8C79-4AC6C66490C6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BEDBF-FFBD-4C6A-80E8-ADBFD2B22475}" type="slidenum">
              <a:rPr b="1" lang="en-US" sz="1400" spc="-1" strike="noStrike">
                <a:solidFill>
                  <a:srgbClr val="7d7d7d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B5E2-E249-4C57-B625-AEC256692570}" type="slidenum">
              <a:rPr b="1" lang="en-US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b5004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ffa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b50043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ffa62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6cba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003473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7d7d7d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d7d7d"/>
                </a:solidFill>
                <a:latin typeface="Tw Cen M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7214D-56B8-468E-A797-0CE4EB6C0A74}" type="slidenum">
              <a:rPr b="1" lang="en-US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inyurl.com/d5voq9" TargetMode="Externa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560" y="4114800"/>
            <a:ext cx="8458200" cy="2286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DJUNCT FACULTY WORKSHOP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Facilitators: 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Norma Grassini-Komara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Chris Stormer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6840" y="2666880"/>
            <a:ext cx="8381880" cy="3200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to </a:t>
            </a:r>
            <a:br>
              <a:rPr sz="4000"/>
            </a:br>
            <a:r>
              <a:rPr b="1" lang="en-US" sz="4000" spc="-1" strike="noStrike">
                <a:solidFill>
                  <a:srgbClr val="e6e3d6"/>
                </a:solidFill>
                <a:latin typeface="Tw Cen MT"/>
              </a:rPr>
              <a:t>Debbie Griffin and Christie Ahrens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at the Center for the Advancement of Teaching and Learning for organizing this workshop, and</a:t>
            </a: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THANKS FOR PARTICIPATING!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72" name="Picture 6" descr="sxulogo.gif"/>
          <p:cNvPicPr/>
          <p:nvPr/>
        </p:nvPicPr>
        <p:blipFill>
          <a:blip r:embed="rId1"/>
          <a:stretch/>
        </p:blipFill>
        <p:spPr>
          <a:xfrm>
            <a:off x="0" y="-609480"/>
            <a:ext cx="91440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e6e3d6"/>
                </a:solidFill>
                <a:latin typeface="Tw Cen MT"/>
              </a:rPr>
              <a:t>Please take the time to provide feedback about this workshop in our short online evaluation form:</a:t>
            </a:r>
            <a:endParaRPr b="0" lang="en-US" sz="4000" spc="-1" strike="noStrike">
              <a:solidFill>
                <a:srgbClr val="e6e3d6"/>
              </a:solidFill>
              <a:latin typeface="Tw Cen M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440" y="2529000"/>
            <a:ext cx="8080200" cy="35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  <a:hlinkClick r:id="rId1"/>
              </a:rPr>
              <a:t>http://tinyurl.com/d5voq9</a:t>
            </a:r>
            <a:br>
              <a:rPr sz="4400"/>
            </a:br>
            <a:r>
              <a:rPr b="0" lang="en-US" sz="4400" spc="-1" strike="noStrike" u="sng">
                <a:solidFill>
                  <a:srgbClr val="000000"/>
                </a:solidFill>
                <a:uFillTx/>
                <a:latin typeface="Tw Cen MT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7d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w Cen MT"/>
              </a:rPr>
              <a:t>February 21, 2009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pic>
        <p:nvPicPr>
          <p:cNvPr id="354" name="Picture 6" descr="sxulogo.gif"/>
          <p:cNvPicPr/>
          <p:nvPr/>
        </p:nvPicPr>
        <p:blipFill>
          <a:blip r:embed="rId1"/>
          <a:stretch/>
        </p:blipFill>
        <p:spPr>
          <a:xfrm>
            <a:off x="0" y="-304920"/>
            <a:ext cx="5715000" cy="2286000"/>
          </a:xfrm>
          <a:prstGeom prst="rect">
            <a:avLst/>
          </a:prstGeom>
          <a:ln w="0">
            <a:noFill/>
          </a:ln>
        </p:spPr>
      </p:pic>
      <p:sp>
        <p:nvSpPr>
          <p:cNvPr id="355" name="Rectangle 5"/>
          <p:cNvSpPr/>
          <p:nvPr/>
        </p:nvSpPr>
        <p:spPr>
          <a:xfrm>
            <a:off x="304920" y="1676520"/>
            <a:ext cx="883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junct Faculty Worksh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onsored by and in cooperation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enter for the Advancement of Teaching and Lear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Department of Information Resources and Technolo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ducation Title III Strengthening Institutions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at is Blackboard?</a:t>
            </a: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	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lackboard is our </a:t>
            </a:r>
            <a:r>
              <a:rPr b="0" i="1" lang="en-US" sz="2900" spc="-1" strike="noStrike">
                <a:solidFill>
                  <a:srgbClr val="000000"/>
                </a:solidFill>
                <a:latin typeface="Tw Cen MT"/>
              </a:rPr>
              <a:t>Learning Management System </a:t>
            </a: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(LMS)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n LMS is…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web-based application available anywhere with internet acce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secure and easy-to-use web site for sharing materials and information with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06000" indent="-30600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 platform for providing online collaborative activities and assessment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Why use Blackboard?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Easily share materials with students – no more lost syllabi or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ster collaboration and information sharing outside of traditional class-time – get students and instructors working together to prepare for class.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rovide up-to-the-minute grade information to studen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Assess student competencies using online quizzes and tes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96280" indent="-2962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Seven Principles for Good Practice in Undergraduate Education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w Cen MT"/>
              </a:rPr>
              <a:t>Arthur W. Chickering and Zelda F. Gams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w Cen MT"/>
              </a:rPr>
              <a:t>Good Practice….</a:t>
            </a:r>
            <a:endParaRPr b="0" lang="en-US" sz="36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s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s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s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s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280440" indent="-280440">
              <a:spcBef>
                <a:spcPts val="700"/>
              </a:spcBef>
              <a:buClr>
                <a:srgbClr val="ffa626"/>
              </a:buClr>
              <a:buSzPct val="60000"/>
              <a:buFont typeface="Tw Cen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Student-Faculty Contact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Post announcements, send emails, participate in discussions outside of clas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Cooperation among Student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Use a discussion board to provide a forum for student peer feedback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514440" indent="-5144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ncourage Active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tudents and instructors can share experiences and information, post additional resources, and reflec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Give Prompt Feedbac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83480" indent="-48348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Online gradebook allows students to know “where they stand”, grade comments provide depth beyond the number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Emphasize Time on Task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Face-to-face class time is limited– by using Blackboard to distribute materials, all students have the opportunity to be prepared.  No more lost handouts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Communicate High Expectations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73040" indent="-47304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Share links and additional resources with students, provide examples of excellent work, and public kudos to students going above and beyond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d7d7d"/>
                </a:solidFill>
                <a:latin typeface="Tw Cen MT"/>
              </a:rPr>
              <a:t>Blackboard can help….</a:t>
            </a:r>
            <a:endParaRPr b="0" lang="en-US" sz="4400" spc="-1" strike="noStrike">
              <a:solidFill>
                <a:srgbClr val="7d7d7d"/>
              </a:solidFill>
              <a:latin typeface="Tw Cen M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Respects Diverse Talents and Ways of Learning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w Cen MT"/>
              </a:rPr>
              <a:t>Blackboard can serve as a repository for all kinds of materials– let students showcase their work!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buClr>
                <a:srgbClr val="ffa62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462960" indent="-462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w Cen MT"/>
              </a:rPr>
              <a:t>Blackboard provides tools that can help YOU and YOUR STUDENTS achieve course goals!</a:t>
            </a:r>
            <a:endParaRPr b="0" lang="en-US" sz="4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16:44:09Z</dcterms:created>
  <dc:creator>Christopher Stormer</dc:creator>
  <dc:description/>
  <dc:language>en-US</dc:language>
  <cp:lastModifiedBy>biology</cp:lastModifiedBy>
  <dcterms:modified xsi:type="dcterms:W3CDTF">2009-02-21T13:45:46Z</dcterms:modified>
  <cp:revision>76</cp:revision>
  <dc:subject/>
  <dc:title>This is A TESt!</dc:title>
</cp:coreProperties>
</file>