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C4D-8A2E-4F4A-B49F-B6135184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F5E-2858-41D6-BC62-EDA67A47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331-15EE-4220-93E3-51F093A5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E95-29FC-4DDA-92B8-B4AE9418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FBBC-55B6-4848-A1D3-81084111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BA30-22BC-4140-8D99-ADC05FC3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D16C-7D1F-4447-B36E-1BD92CC2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D967-BFDC-40DD-A2BF-697617A9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1CD3-923A-44D4-90C1-05653221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86C2-91A9-46C6-A02F-07EB2FB6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4AD-8E5F-4302-A717-A3A2B66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365-6DDC-4544-84CA-CF2E721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3CC9-7AE2-440E-82A0-5711FBC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37FC-24CA-4928-8D14-C5314F8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1B6D-FBD1-4EA6-BB71-CE71273D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37AE-C972-43B9-B23D-631E391F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20A6-75AD-4637-A779-E6981281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5AB90-FEE0-4D92-B9D6-26DAD885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46800-0539-421D-9C0C-570427F7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A3C5E-26FB-440B-9EE7-B5CF244F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A67F6-52A2-4B0D-A04E-211B4DE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ED808-8ED4-49D7-82CC-1A35E9CC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236-5E76-42FB-8026-7833FD2E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08C39-C913-43B5-AE14-5CFD571E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80BFA-E512-4376-8AB3-96385A0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873E2-64C7-4A54-B6E1-6BACC70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EB50C-8B50-437D-8A82-ACB1AE2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92B6B-FBF7-4D82-9131-89FF92AE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5864B-6F5F-445C-BAD3-9EE0F3E4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BF1A4-E7C7-41BC-BB2B-54F2A4D2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EF8D3-BABE-463B-AF5C-A43B0897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24DEC-F94A-4393-AEBA-D418B154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61606-98D5-49FC-ABD2-0F4A6560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659-69C1-46FE-8D05-93AC9685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5F52E-C1B6-4CBC-9EE5-5D12693C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C20B3-3E2E-4DC3-A176-38FED043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1E561-C527-4C0A-9617-F0A2808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8C3B9-2657-4E4A-BD16-04C4D92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3BD31-FD16-47FF-951A-1F603C68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BEC90-4FE7-4B40-8B7F-BD9D8A8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AA6AB-27C1-408C-B735-951B829E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3F222-240F-4016-A2BF-38D51373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26A7C-664C-4181-BF37-426962B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D7539-0360-48D4-8572-B786C744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AE4-8FB9-44B6-91E5-514BB114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B5334-74B6-4B67-8D89-DA7062DB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40ECB-0CC8-45A4-8DC6-4D8E0E3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9857F-C17C-4D07-B3B2-B8516AB0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1087F-CB2B-4593-A8F5-D9800094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B5240-6D44-4581-BDAC-9CE549D5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1DFA9-4F88-4BEF-B8E1-38BF7DAD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63B3E-ED6D-44BE-B161-82D071CF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4FA3E-E5DC-42C3-9803-07BF028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C37B4-B969-4094-A9A4-BF68E07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F9CBA-EC97-4FAB-9A56-D0DC9726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5DB-64FD-43FB-A398-EAFB094C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99D02-FAA6-48CA-99CE-0D874795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8A6A2-6B09-44C6-87B2-DF5951A2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598A-BDCC-491E-AEE8-B664544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C3386-EFDC-4D39-BB94-53CB11D3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3F01-FA87-476E-B132-B33EEC2D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C0F2-D04D-464F-9D23-B5208324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37C48-67A6-4BA5-A1B0-FFBFAD2F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00C1C-8701-4E1C-BB7F-85000D1D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6B87-02D0-4D45-AAC0-6750D69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AE7D-A625-4379-9113-B9D66B6B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D2B-E0EA-4F8E-A02C-F49D3900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7E13-315B-480E-BE0D-40EF112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0DFF8-31DC-42CE-9BC2-09C24689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BB1D5-FF03-4073-8CF5-F684DAE8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29453-0744-4405-AC6D-28562B6F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60214-DEBA-43B2-B17F-B83D34E2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13C61-2A4C-4478-AF45-55040D8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235D9-D0C1-475E-A40E-41D5DC05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891A9-1298-46FC-AC6C-CA05611C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909A1-8FAE-4F06-968C-92D715A7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48DA9-8FA6-418B-8589-76DAC46E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5E3-CA6B-411B-9C5B-E85628E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BD6BA-C27B-4FE8-AE76-1185D988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47C55-C4CA-4618-AFCA-D10FFC9D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3C08D-9400-493C-BE10-9D7670C4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BA155-D3CB-4B8D-A768-8C5EC3B5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EBED4-7692-46FD-B8D8-432F0B99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CD7C8-6345-490B-A057-061939A2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F3682-0CC9-403B-8027-CDA127DB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EC2E-5599-4C3F-B864-9C75CBD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0552-6C79-4730-AE1C-CC1E1FEB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0E06-4159-4834-BBF8-DCA3610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46D-97E0-45CD-9160-ED69726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3E8F5-31A8-483B-BD80-92ECF33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4F337-5D0B-4F01-93CB-D14FEF9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DBE4-6BC3-43C2-ADE8-6B74076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64DD4-DA58-4673-8221-B941C841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D60F3-BDE1-4590-9893-E2406BEE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C9FBE-7AB6-4ACC-949A-DC404DC3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F9356-9488-4FD3-8679-E6D70478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4A88-27AD-416E-8C4A-238928911C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3d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6e3d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DDDC-2601-4C82-9A50-E595BBF249C2}" type="slidenum">
              <a:rPr b="1" lang="en-US" sz="1400" spc="-1" strike="noStrike">
                <a:solidFill>
                  <a:srgbClr val="e6e3d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895B-C95C-495E-9930-8A05780C5EA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83A5-932D-4D4C-8C9E-5D77B90E6CD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E4F9-BB6E-4CB9-AD5D-F177D15C309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C26-0950-471B-BADA-242589022AA5}" type="slidenum">
              <a:rPr b="1" lang="en-US" sz="1400" spc="-1" strike="noStrike">
                <a:solidFill>
                  <a:srgbClr val="7d7d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2176-131E-4C93-8062-E8B511D5086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4B0E-4EAC-4846-A18F-5D05C8E377F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inyurl.com/d5voq9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1148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DJUNCT FACULTY WORKSHOP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Facilitators: 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Norma Grassini-Komara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Chris Stormer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6668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to </a:t>
            </a:r>
            <a:br>
              <a:rPr sz="4000"/>
            </a:br>
            <a:r>
              <a:rPr b="1" lang="en-US" sz="4000" spc="-1" strike="noStrike">
                <a:solidFill>
                  <a:srgbClr val="e6e3d6"/>
                </a:solidFill>
                <a:latin typeface="Tw Cen MT"/>
              </a:rPr>
              <a:t>Debbie Griffin and Christie Ahrens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t the Center for the Advancement of Teaching and Learning for organizing this workshop, and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FOR PARTICIPATING!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Please take the time to provide feedback about this workshop in our short online evaluation form: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2529000"/>
            <a:ext cx="80802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  <a:hlinkClick r:id="rId1"/>
              </a:rPr>
              <a:t>http://tinyurl.com/d5voq9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4" name="Picture 6" descr="sxulogo.gif"/>
          <p:cNvPicPr/>
          <p:nvPr/>
        </p:nvPicPr>
        <p:blipFill>
          <a:blip r:embed="rId1"/>
          <a:stretch/>
        </p:blipFill>
        <p:spPr>
          <a:xfrm>
            <a:off x="0" y="-304920"/>
            <a:ext cx="5715000" cy="2286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304920" y="167652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nct Facult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ed by and in cooperation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for the Advancement of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partment of Information Resources an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ducation Title III Strengthening Institutions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at is Blackboard?</a:t>
            </a: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ackboard is our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Learning Management Syste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LM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 LMS is…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web-based application available anywhere with internet a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ecure and easy-to-use web site for sharing materials and information with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platform for providing online collaborative activities and assessment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y use Blackboard?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ily share materials with students – no more lost syllabi or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ter collaboration and information sharing outside of traditional class-time – get students and instructors working together to prepare for cla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ide up-to-the-minute grade information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ess student competencies using online quizzes and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Seven Principles for Good Practice in Undergraduate Education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rthur W. Chickering and Zelda F. Gam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w Cen MT"/>
              </a:rPr>
              <a:t>Good Practice…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s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s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s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st announcements, send emails, participate in discussions outside of cla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e a discussion board to provide a forum for student peer feed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tudents and instructors can share experiences and information, post additional resources, and refl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Online gradebook allows students to know “where they stand”, grade comments provide depth beyond the numb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ace-to-face class time is limited– by using Blackboard to distribute materials, all students have the opportunity to be prepared.  No more lost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are links and additional resources with students, provide examples of excellent work, and public kudos to students going above and beyon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Blackboard can serve as a repository for all kinds of materials– let students showcase their work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Blackboard provides tools that can help YOU and YOUR STUDENTS achieve course goals!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44:09Z</dcterms:created>
  <dc:creator>Christopher Stormer</dc:creator>
  <dc:description/>
  <dc:language>en-US</dc:language>
  <cp:lastModifiedBy>biology</cp:lastModifiedBy>
  <dcterms:modified xsi:type="dcterms:W3CDTF">2009-02-21T13:45:46Z</dcterms:modified>
  <cp:revision>76</cp:revision>
  <dc:subject/>
  <dc:title>This is A TESt!</dc:title>
</cp:coreProperties>
</file>