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DA9-0A83-4C4E-8A8F-2747AE6D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ADB-D0FC-43A9-A838-18FB5317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5C7-24D7-4779-8519-8C82DF29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C92-F555-4479-828D-7764200F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B47B-B1B8-419A-9B15-1DDB780B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6CB9-0815-41C7-8375-27F8A9C3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8A14-4934-4F42-88F0-4F7432A2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D97E-E26D-46E2-8966-540CB804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45C8-AE1F-4819-8019-74F761ED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2706-48F2-424A-8B02-6F9C3EF8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5621-AB88-4BAD-8A6E-5A0CBBE5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F43-BAB8-4FAE-9D38-929CDEF8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8F10-7C60-4121-85AA-99EA1807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D686-4C3D-4FA3-A275-072527C0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D575-9CE9-49ED-96BC-32404A2F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3D68-C2F2-4EC8-A85B-EE9C23AD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8CB6-04BD-4664-A925-73F7D63B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BDA51-1D60-4AE8-9440-2C48008E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F561F-536B-4625-843C-866D0010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B5FF1-7F17-447A-B56E-D705F385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80E65-BB9B-4087-A210-0A5F1CCA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F5D8D-919F-4095-B837-2497815F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06B-DCD0-415B-B53B-DC303198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0C7DA-2361-45A2-A4F1-F90AC0FE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D1C41-B27F-416D-9CCC-393A86F7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1F14A-353F-47FE-B3C1-A4DE83E2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C54BA-474D-479E-BDA0-486DF0B9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6B4CB-CC57-459E-8A53-5CB2A87D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1D182-F47E-4362-8E93-C66A5489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CF081-5646-4EF9-8851-B0C04401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85F23E-5E6D-41DB-A7FD-A337506F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93111F-0E16-42FA-B91F-C6326C4B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E36549-97B7-421C-9D39-809D89A3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821-83C7-4307-9841-6DC4DC84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CE1979-B339-477C-93B9-EE81DC18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7846B4-F974-4049-83EF-7745C71D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C3BE0A-3425-4BFB-A43B-5A918D1A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936B4-FC47-4F49-AFBF-8FE34D8A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EECB9C-D03E-4427-822C-543C36B2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94D7D6-7245-4059-ABB5-66FF44C3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054EC4-3F36-49C3-9ADB-B8974F41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AD364-23C6-4CDD-B1AD-E5E01CE3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303D6-AD09-4523-A050-97A6A870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18CDA-3539-41E7-99A3-BD88D6FD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1FF-42E6-40F1-BA7B-8145DADD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C702C-8472-4251-8359-CB3428FE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BB071-A14A-4BBC-B500-55442F28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EEA6E-6FE6-44BC-9394-5C48BCE3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A4157-8C41-4444-ABB9-BF7BE1CA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AFB11-AE7B-4597-8605-C2FAF828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F5157-53E6-469D-93A5-55FED17B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0A2CE-668C-4682-B435-ADF75C95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F4657-11F8-4BC0-A6D2-E62E27B0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46D29-70C0-4E52-BDD8-01D8F33C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9D48D-6A9B-4F27-A3E3-B2A674FC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14B-A3A7-4471-AF48-1EAD59AC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C9767-8025-483A-9BA3-140E8FAD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BB144-241C-41F9-B78E-5DAEFC06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33A77-9EC4-4F69-A7D2-F8B573DC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598A6-FF18-42D3-A9BD-73F92E3E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C9FE5-ACEF-4599-8C85-5B5BD595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762DF-40D7-441E-BF23-9740FA41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B61E8-6E11-46CA-8BE8-002DD29A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62B71-3CE6-4CE3-82E7-F3EC3D44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289AF-93ED-4DC9-9808-6DAF73DB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28756-5F8F-49B1-8EC8-AACA2CD0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9C7-1695-4608-B46F-330D9D6C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BA128-0923-4A84-A329-A0FA3444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D6B4B-051E-4D2D-80A1-EFDE7318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84120-5A2C-40CF-AAEF-DD620A90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40941-4925-415B-8BF6-580FF4FD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AEB7BC-CD72-4C40-A77E-6EC1D454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46481-22F8-495F-9C77-5BCEFAD5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ED4A7F-1DF0-47AC-9F2F-DA152E2B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92D0F-0970-435A-8E5D-3FE4EC28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C1876-1163-4C92-9D33-C577FDDF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D5C13-36FE-441E-9B18-CBBA2321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FF3-9B4C-4B18-8D45-1B7E7BBA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F52D12-7835-4895-BAA3-52AB9A44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286CD-9343-4688-A2EE-366F7BB1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42D9C-5742-4988-A67F-7168883C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9E52E-F70E-490F-9989-333D42DF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D7C6B-A2D6-49B5-B733-B094BA8F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C4F42-7A1E-4F33-B928-253ACAF2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94756-41A4-4E9C-89BE-7874FE46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7F2C0-7DF0-44DF-A8FB-D4FBFA7F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002C8-C0F9-4B22-837F-84DCC069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73E7A-A872-4857-B829-F39DB0D8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724-D77A-413F-ABFF-3CEF5BEC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263D5-4AC5-446A-8109-BE076357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2E1B0-87BE-4922-99A2-DD483D4F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6E47E-A874-4F5E-8716-528238E7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252CE-E215-421D-9C3E-44511B94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6E310-2F44-48EB-ABE9-0D8F4CF5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E9002-49A6-4E77-A852-24FE3AF1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22BB4-05B2-4B5E-A3EA-DBFA238D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E983-CB5B-4C7B-BEA9-784369CEDCA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3d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6e3d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B475-13F8-4087-8451-B63D1D589D28}" type="slidenum">
              <a:rPr b="1" lang="en-US" sz="1400" spc="-1" strike="noStrike">
                <a:solidFill>
                  <a:srgbClr val="e6e3d6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7FB7-87C9-4198-B6B2-B06B892D4B5E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25CF-5CF6-4A7D-8736-8B41329B00E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64FC-7480-4A27-B723-92C6034D31A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309F-F038-4C07-BDA1-2B93DF50DED2}" type="slidenum">
              <a:rPr b="1" lang="en-US" sz="1400" spc="-1" strike="noStrike">
                <a:solidFill>
                  <a:srgbClr val="7d7d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EFAA-B639-49B4-81FF-59151EACE6D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554C-F5F4-4963-BE75-FADBDA9086E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inyurl.com/d5voq9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41148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ADJUNCT FACULTY WORKSHOP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Facilitators: 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Norma Grassini-Komara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Chris Stormer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ebruary 21, 2009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6" descr="sxulogo.gif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6668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Thanks to </a:t>
            </a:r>
            <a:br>
              <a:rPr sz="4000"/>
            </a:br>
            <a:r>
              <a:rPr b="1" lang="en-US" sz="4000" spc="-1" strike="noStrike">
                <a:solidFill>
                  <a:srgbClr val="e6e3d6"/>
                </a:solidFill>
                <a:latin typeface="Tw Cen MT"/>
              </a:rPr>
              <a:t>Debbie Griffin and Christie Ahrens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at the Center for the Advancement of Teaching and Learning for organizing this workshop, and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THANKS FOR PARTICIPATING!</a:t>
            </a:r>
            <a:endParaRPr b="0" lang="en-US" sz="40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ebruary 21, 2009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72" name="Picture 6" descr="sxulogo.gif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Please take the time to provide feedback about this workshop in our short online evaluation form:</a:t>
            </a:r>
            <a:endParaRPr b="0" lang="en-US" sz="40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2529000"/>
            <a:ext cx="808020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w Cen MT"/>
                <a:hlinkClick r:id="rId1"/>
              </a:rPr>
              <a:t>http://tinyurl.com/d5voq9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Tw Cen MT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ebruary 21, 2009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4" name="Picture 6" descr="sxulogo.gif"/>
          <p:cNvPicPr/>
          <p:nvPr/>
        </p:nvPicPr>
        <p:blipFill>
          <a:blip r:embed="rId1"/>
          <a:stretch/>
        </p:blipFill>
        <p:spPr>
          <a:xfrm>
            <a:off x="0" y="-304920"/>
            <a:ext cx="5715000" cy="22860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5"/>
          <p:cNvSpPr/>
          <p:nvPr/>
        </p:nvSpPr>
        <p:spPr>
          <a:xfrm>
            <a:off x="304920" y="167652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nct Facult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ed by and in cooperation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for the Advancement of Teaching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partment of Information Resources and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Education Title III Strengthening Institutions G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What is Blackboard?</a:t>
            </a: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ackboard is our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Learning Management System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LMS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 LMS is…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web-based application available anywhere with internet acc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secure and easy-to-use web site for sharing materials and information with stud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platform for providing online collaborative activities and assessment to stud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Why use Blackboard?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ily share materials with students – no more lost syllabi or handouts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ter collaboration and information sharing outside of traditional class-time – get students and instructors working together to prepare for clas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vide up-to-the-minute grade information to stud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sess student competencies using online quizzes and te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Seven Principles for Good Practice in Undergraduate Education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Arthur W. Chickering and Zelda F. Gams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w Cen MT"/>
              </a:rPr>
              <a:t>Good Practice…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s Student-Faculty Contac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s Cooperation among Student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s Active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Gives Prompt Feedba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mphasizes Time on Tas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municates High Expectation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espects Diverse Talents and Ways of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 Student-Faculty Contac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ost announcements, send emails, participate in discussions outside of cla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 Cooperation among Student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Use a discussion board to provide a forum for student peer feedb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 Active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tudents and instructors can share experiences and information, post additional resources, and reflec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Give Prompt Feedba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Online gradebook allows students to know “where they stand”, grade comments provide depth beyond the numb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mphasize Time on Tas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3040" indent="-4730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Face-to-face class time is limited– by using Blackboard to distribute materials, all students have the opportunity to be prepared.  No more lost handouts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municate High Expectation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3040" indent="-4730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hare links and additional resources with students, provide examples of excellent work, and public kudos to students going above and beyon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espects Diverse Talents and Ways of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62960" indent="-462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Blackboard can serve as a repository for all kinds of materials– let students showcase their work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62960" indent="-462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62960" indent="-46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Blackboard provides tools that can help YOU and YOUR STUDENTS achieve course goals!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6:44:09Z</dcterms:created>
  <dc:creator>Christopher Stormer</dc:creator>
  <dc:description/>
  <dc:language>en-US</dc:language>
  <cp:lastModifiedBy>biology</cp:lastModifiedBy>
  <dcterms:modified xsi:type="dcterms:W3CDTF">2009-02-21T13:45:46Z</dcterms:modified>
  <cp:revision>76</cp:revision>
  <dc:subject/>
  <dc:title>This is A TESt!</dc:title>
</cp:coreProperties>
</file>