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48EAF-9C49-44F6-A8AA-8E4AC8E50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2BED-5DFD-43B4-A31C-2194E6AB4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5A6-B037-445E-ABD3-D097AD2F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DC7-2801-45B9-896E-552A6A20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BA9E5-6188-4326-B88A-C41F3BF0C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22193-2DA4-41B7-AA38-B83665BC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C5921-2882-4A67-8F88-13C01F2C5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EBEC7-5A45-4D6D-84CE-04739C79D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E3E89-00D5-4626-AFCB-0C67EAF6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51B8-D46A-4FB5-91DC-825981A5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D1C0-9D9E-4668-9D5C-0B631A599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C69-37B6-404E-941C-E9BF49C3A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C1F2-907A-4540-A06D-877F1C29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73BD-E7E7-41B8-917A-9BFEDD803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3283D-056F-46C4-9CA8-B4BC6F49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FC275-36F6-4CFD-8A41-727429C3D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2F060-56A7-4B7E-A793-1589CEF7A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63F0FF-B6C9-4529-8BF6-47629C47E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ECC151-98B6-41C4-BD42-BF131C314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4D1F29-43F7-4B41-B826-B043301D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C8830F-50FA-40B3-835C-A5A5AF3AD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D907B44-CDC0-4F4C-B505-BB5FA44DE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8D52-EF29-4A1B-B63F-0BA7680ED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DDE2BD-C2F7-4424-8D0E-E0EE0CA9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32901-6A49-4223-A7EF-B623EC7E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44B67B-0D09-48F7-A589-5C238A44F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FC991E-8BC5-40E0-B003-D5EE28DC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7AB580-7542-439C-B7B0-5ADAA79FF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568E58-C4AC-4971-94B4-F50465F72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84079-2454-47BC-88B3-B2BABB85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E43941-B004-44C3-B6E0-767DAD509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19EEA9-E26E-4D0A-924D-0F70F6A5D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A1D707-9E2D-4C98-869B-7B8BBA8C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8455-C982-4A89-80B1-356E615B9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89A648-3822-434E-84FB-F68B548DA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F33086E-E65D-4E30-90E1-BB722A56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1148C1-DB82-429A-9C40-F3668134F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E9C003-9ADD-4CC7-9D9D-DDB46C349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C55FE96-65BD-48AB-A098-6510B94C6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44A08B-AA28-4715-B0D0-14AFC294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F570DC8-D1E8-44D7-ACA4-A18F712E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D56F825-705B-4093-A41D-D9D44C31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70C94C6-0BFF-4808-A2B6-4C0A8666B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EA09DF-1863-44AA-8C4D-739EAEF48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91D-4AD0-4B5D-8D74-ADD694700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B04108-7F39-420E-95CF-041EA891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3616DB-60A8-420A-8777-42F77E782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5A91147-1A6C-440E-93EE-2A2FF245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22998E2-1938-4CFE-8EB0-91B1C2424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931608-2403-4593-96A7-665F29F04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6ADE5A-78F6-4C92-9574-41E8D787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F7EA77-08FC-4BC6-94B3-1803087CF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957BC-2802-467B-83D3-E00736827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793B00F-AD4E-4060-A8EE-075D58CA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493CBC-5FE4-4965-92C8-395748A2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C433-AB4D-4B10-999D-CE319E32E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8BA5FF-6A58-4982-9B20-E0F7B7F7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26A0B-EC79-403B-B6B6-A5FAF48CA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680FC-DA9E-4930-BDC5-5AEF35FCB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143E6-6BDF-4AEF-8856-61FE20328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BAD311-FF6F-40CB-AFB1-83C8EFF73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BE2CF-DCE5-42E8-B19F-DE3A04739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58C477-DAB2-4404-A2F8-870A0A7FF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92D31A-6D50-48C6-9B29-0910D208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7044E6-5A57-4E1D-8CD8-B8A4F7B96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9315E-B3C9-4030-9673-9DEFC7F6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F3FE-467C-4966-8A04-38603BFA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A63F7-978A-49CC-8580-CAAECB66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00425-A8B6-4DF0-9890-1120C54EC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7FF62D-8A96-47E4-8E79-E5E188107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AF24B4-14F9-4948-B7F6-F90DED60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D56DCDF-3024-4F69-BF97-5EE94DDF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92235FE-8C79-4053-8732-B3302622A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37F555-EC9C-4BB2-9709-4AC1938A1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593A84F-CADF-404A-9324-DE196969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8B74525-967C-401C-BC1E-8D2B0AE38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495F094-66D6-4D2A-B9E2-9C54EEBD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FDFC-2E9E-43F0-9B98-F785D7A7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CD56ACE-6B65-4281-A811-CFD553871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BA3263D-6769-4C26-97AB-16B6BE461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B8F4150-B455-401E-9C6F-8BA38CE3A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430F6D-14B2-4B7E-B76D-B7EF4DBA0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E18F83-F3F8-4628-A674-22A45378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BCCA47-FA5C-42D8-90D2-A62A83242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123C9-5EEA-4D37-9F3B-675BD47D1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9DC5FA-CB55-43A4-BA3F-69302433C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834E6-A12B-4C2B-993F-23E257BE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41A314-C761-4CF2-AA83-65E62E870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7CD0-6B3D-4B20-96FB-E57E86FE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560BAB-ED2F-40B6-9C80-7C3DB4C2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24809D-A957-4BE8-AE7A-7A9F23270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48811-30D0-4BE5-9737-21230B303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97FB0E-7876-45C5-BD53-77A5B958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D93DA-097B-4AFF-83C3-913B25C6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EC559-931A-4848-8C6D-0A9A9AEB9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E262EE-0716-4635-9141-26231FBD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CE9F-3A08-437B-A670-A56908DB9AB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3d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6e3d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0CAC1-7724-4C6C-87E3-E2F31C17DAE1}" type="slidenum">
              <a:rPr b="1" lang="en-US" sz="1400" spc="-1" strike="noStrike">
                <a:solidFill>
                  <a:srgbClr val="e6e3d6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DEBAB-4CAB-4CD9-BBAB-BF6E8B4FBEED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7A6B-1103-4F68-B2F2-1E91DDFEA1F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95D5D-309E-4758-B1CB-A2179381A2CA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198C-0E4B-4E94-9ED7-FC9C3C55073A}" type="slidenum">
              <a:rPr b="1" lang="en-US" sz="1400" spc="-1" strike="noStrike">
                <a:solidFill>
                  <a:srgbClr val="7d7d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C12C9-3A3C-4523-AE3D-73D27CDAD06F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05F02-4752-4D96-86EA-CD88733439F7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inyurl.com/d5voq9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41148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ADJUNCT FACULTY WORKSHOP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Facilitators: 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Norma Grassini-Komara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Chris Stormer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ebruary 21, 2009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6" descr="sxulogo.gif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6668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Thanks to </a:t>
            </a:r>
            <a:br>
              <a:rPr sz="4000"/>
            </a:br>
            <a:r>
              <a:rPr b="1" lang="en-US" sz="4000" spc="-1" strike="noStrike">
                <a:solidFill>
                  <a:srgbClr val="e6e3d6"/>
                </a:solidFill>
                <a:latin typeface="Tw Cen MT"/>
              </a:rPr>
              <a:t>Debbie Griffin and Christie Ahrens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at the Center for the Advancement of Teaching and Learning for organizing this workshop, and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THANKS FOR PARTICIPATING!</a:t>
            </a:r>
            <a:endParaRPr b="0" lang="en-US" sz="40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ebruary 21, 2009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72" name="Picture 6" descr="sxulogo.gif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Please take the time to provide feedback about this workshop in our short online evaluation form:</a:t>
            </a:r>
            <a:endParaRPr b="0" lang="en-US" sz="40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2529000"/>
            <a:ext cx="808020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w Cen MT"/>
                <a:hlinkClick r:id="rId1"/>
              </a:rPr>
              <a:t>http://tinyurl.com/d5voq9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Tw Cen MT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ebruary 21, 2009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4" name="Picture 6" descr="sxulogo.gif"/>
          <p:cNvPicPr/>
          <p:nvPr/>
        </p:nvPicPr>
        <p:blipFill>
          <a:blip r:embed="rId1"/>
          <a:stretch/>
        </p:blipFill>
        <p:spPr>
          <a:xfrm>
            <a:off x="0" y="-304920"/>
            <a:ext cx="5715000" cy="22860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5"/>
          <p:cNvSpPr/>
          <p:nvPr/>
        </p:nvSpPr>
        <p:spPr>
          <a:xfrm>
            <a:off x="304920" y="167652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nct Facult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ed by and in cooperation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for the Advancement of Teaching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partment of Information Resources and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Education Title III Strengthening Institutions G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What is Blackboard?</a:t>
            </a: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ackboard is our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Learning Management System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LMS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 LMS is…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web-based application available anywhere with internet acc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secure and easy-to-use web site for sharing materials and information with stud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platform for providing online collaborative activities and assessment to stud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Why use Blackboard?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ily share materials with students – no more lost syllabi or handouts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ter collaboration and information sharing outside of traditional class-time – get students and instructors working together to prepare for clas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vide up-to-the-minute grade information to stud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sess student competencies using online quizzes and tes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Seven Principles for Good Practice in Undergraduate Education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Arthur W. Chickering and Zelda F. Gams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w Cen MT"/>
              </a:rPr>
              <a:t>Good Practice…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s Student-Faculty Contac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s Cooperation among Student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s Active Learn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Gives Prompt Feedba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mphasizes Time on Tas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municates High Expectation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espects Diverse Talents and Ways of Learn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Blackboard can help….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 Student-Faculty Contac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ost announcements, send emails, participate in discussions outside of cla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 Cooperation among Student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Use a discussion board to provide a forum for student peer feedb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Blackboard can help….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 Active Learn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tudents and instructors can share experiences and information, post additional resources, and reflec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Give Prompt Feedba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Online gradebook allows students to know “where they stand”, grade comments provide depth beyond the numb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Blackboard can help….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mphasize Time on Tas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3040" indent="-4730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Face-to-face class time is limited– by using Blackboard to distribute materials, all students have the opportunity to be prepared.  No more lost handouts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municate High Expectation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3040" indent="-4730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hare links and additional resources with students, provide examples of excellent work, and public kudos to students going above and beyond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Blackboard can help….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espects Diverse Talents and Ways of Learn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62960" indent="-462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Blackboard can serve as a repository for all kinds of materials– let students showcase their work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62960" indent="-462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62960" indent="-46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Blackboard provides tools that can help YOU and YOUR STUDENTS achieve course goals!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6:44:09Z</dcterms:created>
  <dc:creator>Christopher Stormer</dc:creator>
  <dc:description/>
  <dc:language>en-US</dc:language>
  <cp:lastModifiedBy>biology</cp:lastModifiedBy>
  <dcterms:modified xsi:type="dcterms:W3CDTF">2009-02-21T13:45:46Z</dcterms:modified>
  <cp:revision>76</cp:revision>
  <dc:subject/>
  <dc:title>This is A TESt!</dc:title>
</cp:coreProperties>
</file>